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747-F7A2-4FF4-979F-AC03D7C6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0CC-1119-4A89-9529-4454CFC1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157E4-4849-454A-94F9-145AA18F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CD7ED-95BD-46DE-8257-2EA12B97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18B30-B7A0-4D74-80F9-458D9B31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EA47E-2B39-4C01-9CDF-30E7A95E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1E9EC-9DBF-426B-965E-13ACC981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7E819-ED78-42AB-9DB3-385C8BCC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08707-EAC5-464C-AA50-EC7B2CB8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90EDD-579C-4A28-8A48-0C33754E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92141-F97F-4A76-8D1F-79F546DE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34883-6FAB-42D9-A926-98E27C1A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505-B4BB-4437-B813-B1DF1AFA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08CDF-E0F9-4255-AC1F-6A1AFB00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5379A-06F1-4434-984F-BE65F934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513AC-D678-406F-B64C-45BCBFE1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80CC3-4DB5-46ED-B800-21E71D39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5B164-6F80-41C7-BA8F-EA52D3B5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DFFE0-8937-4D28-B66D-B832BD63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37AC1-F3E6-4DE4-A7AD-44EFB30D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50E67-3A8B-4C6B-8978-3D4E185F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B5FAD-F375-417A-9C61-942D9691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6205E-23CD-48F3-89EE-C45AAC5F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571-D422-4155-AFAB-6D9E532E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8EF98-9B9E-4E96-94FA-21B9FD76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0FA38-C3DC-48F6-9673-4A9C24CB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FA6AA-FD7C-4F15-8E0F-4B41B3DA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00F09-430E-4B0A-ADED-1A23EFDC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F8DD1-F5FD-491C-9ADB-4FDC57F7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51609-34A3-4E8B-9131-88E45F27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5F39A-1773-435E-AEA2-9BB49422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81CB9-39FE-4C81-B75E-4F384BED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50130-65C5-4474-8E4D-1AEEB2EB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1E551-0DA4-40DF-9959-39DEFDF5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D061-D008-482D-8D86-E5C1639C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46E94-B770-4643-81AC-3EF968A6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33515-5303-4459-825A-8CF6F873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8A32C-F64E-4742-9084-AA8ACFD7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6E162-23E5-4D4C-AF79-31E3A885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CD755-C323-4B07-BE77-DC4088D2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CAADB-CA85-4DFB-B35A-4A50F219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93F04-825E-4DC4-BBB0-C0644293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AF248-BF8C-45DA-9243-A199A6DE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54841-EBCF-43F9-9F5B-83CC4414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93A3B-1258-4547-BF1F-CBA62AFE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B83F-378A-4C28-BA9E-7C81E2A8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8C9B3-CC5F-4253-B48A-EA1F58CB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69C45-293E-4650-9D33-0C8C65C5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E6FB7-A548-4F20-AF0C-27C08D11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AF867-ED91-41F8-88E7-94E7AA44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8060C-C946-4007-9E9C-BECF8C42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BE3B-54B8-46B2-A093-65FA39D5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4EA9-226D-4157-A034-7078D3A4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DE6E-02C9-4AF3-8C89-397369DE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4B04-2EA4-4CF1-B2B3-C62A5CDE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8D20-5E87-493D-BB7D-0AF26C43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38A-2943-4BC1-9291-D3FA4D6A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AA1A-248D-41CD-B7A9-1EAC9021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8FE6-C63D-439E-B055-535269FF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AF6A-630A-4B59-9D7B-2E0142AB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381D-7C4D-46E6-B686-7AAAED2A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9722-613A-4AC7-9AAF-36DA3CF5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6B2A8-29A2-4FA4-853C-A8ADB4A6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4ED7B-7F5C-4578-B52E-3E6FC629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BAE0-82D3-4FED-8B1D-D394818C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AFCD-4C55-4DD6-8228-FF722452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31B6-E1C4-431D-A0F8-C8627139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8E8-DDDC-4598-8277-085CC93F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B676C-BDDA-400B-8505-92E2A578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55885-E8FC-4D71-B4C1-96977188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C6009-856E-4BF2-9A7A-C5E74585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1E9B1-EF44-4856-BBC2-7EFC70F9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E18BD-580D-4809-A78F-476D769A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409D-97AD-4C18-A2D5-C4A07A46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9A133-E175-4353-882C-A600A3F0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F9356-DA04-4C0C-B21F-B6A2EDAD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436FE-D844-488E-A695-31185729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F875A-80E8-4B74-AFE4-23AD0714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F61-574F-48B0-868D-0DAD46F8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5DFFF-997B-42E8-81C1-75025D46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89470-BA45-476D-B3AD-B3D02E40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AC000-5505-4F91-965A-450FB591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FD27B-D034-4EF5-B618-8213B8B8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36CD5-D219-43F2-A5CF-E13897F1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85C3C-D3F1-4993-992F-36944C9B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C570A-56B3-4988-920D-792682B1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C2F29-CC72-4F52-BDDA-3A1A530E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2C9E0-4634-44CB-A3B6-0B1676AD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69E9F-648D-4AB8-9241-39F43CFB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CAF-6D53-4B7C-B565-BD4276FC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635BF-D2AC-4BB1-B17E-C09FAB18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C5C35-66B7-49FB-A97D-8B913981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87AE7-CC94-419E-B169-92ACDBA2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50A6A-2755-47E0-9C2B-5CBA44F9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85941-DA86-4F8E-AE46-A6CC046F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0A0D5-A46C-412A-AF8F-C8B35DF9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5672B-BB9C-4175-8BAF-06465EAC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13036-97F1-4118-8DBC-477A93B5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23A1D-1FA2-4C60-9F93-12288EA2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F2B4E-0736-4E56-B4A5-063AAEFA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D7A-AED5-49FE-873C-DB55D4BC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0C418-AF35-4AD8-8F03-DEF18CAC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FB31A-F766-45A6-9070-1BEE5957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D3DDE-7DA4-4F2E-AA81-4C4F3CD9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AE9F9-32E4-40B9-A81A-6895041E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44771-FFD9-4651-A14B-0E084008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94D52-4DB8-498F-9C29-BB0B8795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55184-E120-4599-9CBF-8CFEB0AB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F0364-B8E9-4049-9372-23DD6619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1F3D2-EF88-403F-8E36-E90F5C6E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E62AE-0EBB-4DB6-BED2-8610D413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75B-DEEF-49E0-938C-4296C0B1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8A984-57A9-463C-9E23-ACCFB200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5B4F3-433F-48A4-9570-02F87073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4CDD3-9801-4924-AEA7-9DF4A586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05DBF-2E52-4F83-A768-05A072C1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D62B8-3E7C-475B-B48A-0D113F04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74F5B-E58F-455F-B42F-796C7BF3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278FB-A008-495D-BF90-6185B647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A6CA9-9312-4DEE-9C4A-E623BE3D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203A6-B5BA-4563-A6B2-062787EC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73A4A-8086-4DB8-87FC-C7142203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861-0CD7-43AD-A22C-BB43A9C6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90855-7265-494F-82AE-6D20F12E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1A814-C5C6-4561-A8A9-B3D9AD3A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CEBCA-449D-46B4-B4E2-AD408CE9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1D1DA-F952-4F6E-A5B8-52117C74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4B5D6-47B1-48C7-B545-CB727D86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24989-C0ED-4B44-AFC6-7B15EC72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F29AE-C253-4DD7-B440-FFE2AEC4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84106-42D7-4095-8C0C-4B627084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F1F74-FEA7-41F2-8BF3-0AD73993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72C51-3156-4E6D-B4C1-1A424A14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776-9AE5-453A-B039-681EDA03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C12B5-E47C-4F48-978B-2806A769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5264D-A28C-4E32-8A4C-CD12A2C7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7118F-C5B3-48EC-B793-A56F9D09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111A9-6CE8-4DE2-A023-EF5210F2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2A4DA-41CD-43F9-83EF-075B9D84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85FC1-69CE-4CBD-A1DF-8B3C4D22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4CF96-10B7-419B-B2A8-42656960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4703B-2FE3-4464-8637-D1D30FA4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8EC38-910E-437C-AE04-E78FA56D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2D45B-59E3-4447-98EC-365B3375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E4E6-617C-4495-B8B0-08CE4C803D3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B257-00A7-4C42-B196-934AA5869C4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89C0-6158-4B97-B601-517738AF086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0E9B-5CD6-4829-8E44-227BDEA896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C4A1-D699-4D7E-9E43-43646D9CF2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AF62-2629-4090-944D-9590423D87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B289-A656-4E4B-BEE0-CEE9D909811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33BE-14BA-423A-AF4B-2967DD37FD8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D899-D3C4-496B-9E51-3BF959866F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4C8B-E3FE-4A8E-9769-201194BBAB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AF0C-C03D-46BE-86A3-9D704983197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ACA0-CBEF-4CDB-94E2-3E626084409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40 Sám, Pane, prebuď svojich svedko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, Pane, prebuď svojich svedko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Sion tvoj by verne stráži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dľa vzoru dávnych predko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esť mena tvojho smelo háji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tvojej spáse zvesť sa rozniesť m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uverí svet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e vďaku vzd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Duch tvoj lásku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blížnym nie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ých srdciach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é teba vzývajú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tvoja pravda mocne svie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cestu t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čo spásu hľad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Božej pravdy lúče spočin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sa aj mraky hriechu rozplyn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nebies rosa polia zvlaž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žatva sveta dokončí sa v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tvojich žencov práca blaž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zachrániť chceš každý vzácny k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chválospev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vďačné budú zn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pasení tvár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u budú zrie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8T15:56:15Z</dcterms:modified>
  <cp:revision>45</cp:revision>
  <dc:subject/>
  <dc:title>Je veľký náš Pán, on slávy je Kráľ Nech do všetkých strán  spev vrúcnych znie chvál.</dc:title>
</cp:coreProperties>
</file>